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77A93-A35E-46D4-ACA9-06C93E837136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6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394CF-1A2F-4766-B58C-7F1E2A8C07C0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BE23F2-86E7-460C-AA01-E3A02FD8AB4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7DDDEB-6AB2-46BC-997D-A88611A42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E5B644-BD38-4046-9402-FCD5BE3F9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D7646A-DB69-44E2-AC07-BAC98AE77E8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9001A2-B432-4940-9EC1-144460100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AB4CD6-D0EE-41E8-8703-490FE062A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4A53D8-E700-4FBC-AE25-1D1A0CBA3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9767D1-30B1-4C59-9042-95EC4DAC1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8D4AA5-EBA7-41D4-ADA3-7157A81E1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E52BEA-3206-4AA6-8696-DB059708D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5C0A86-5008-468C-BFD7-E95367B58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400FCD-F66F-4742-855E-C3422A6D3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>
              <a:gd name="textAreaLeft" fmla="*/ 0 w 9156960"/>
              <a:gd name="textAreaRight" fmla="*/ 9156960 w 915696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44588-36DC-41D8-B686-6271E576954A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5600"/>
                  <a:gd name="textAreaBottom" fmla="*/ 346320 h 34560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-360 h 359640"/>
                  <a:gd name="textAreaBottom" fmla="*/ 359640 h 35964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4000" y="2276640"/>
            <a:ext cx="5184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三十一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肝炎病毒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TextBox 2"/>
          <p:cNvSpPr/>
          <p:nvPr/>
        </p:nvSpPr>
        <p:spPr>
          <a:xfrm>
            <a:off x="1448640" y="5357880"/>
            <a:ext cx="127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首都医科大学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朱俊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二节 乙型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99640" y="1341000"/>
            <a:ext cx="748836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原结构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sAg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表面抗原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外衣壳蛋白。主蛋白（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S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蛋白）是外衣壳的主要成分，可刺激机体产生中和抗体，是制备疫苗的最主要的成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HBcAg- HB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内衣壳蛋白，血液中一般查不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eAg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可溶性游离于感染者血液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抵抗力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抵抗力强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00℃,10min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灭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二节 乙型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41160" y="1916280"/>
            <a:ext cx="803412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致病性与免疫性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传染源为乙肝患者及无症状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sAg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携带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血液传播、接触（密切接触和性接触）传播及母婴传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乙肝临床表现复杂多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无症状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sAg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携带者、急性肝炎、慢性肝炎或重症肝炎；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少数慢性感染者可发展为肝硬化和肝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免疫病理损伤是乙肝发病机制之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二节 乙型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1217520" y="1483920"/>
            <a:ext cx="702648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3000"/>
          </a:bodyPr>
          <a:p>
            <a:pPr marL="216000" indent="-21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微生物学检查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16000" indent="-21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原抗体测定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血清学检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“两对半”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16000" indent="-21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sAg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、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eAg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16000" indent="-21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s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、抗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c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和抗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e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16000" indent="-21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16000" indent="-21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原抗体检测主要用于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16000" indent="-21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诊断乙肝及判断预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16000" indent="-21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筛选献血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16000" indent="-21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乙肝流行病学调查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16000" indent="-21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16000" indent="-21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16000" indent="-21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16000" indent="-21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二节 乙型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395280" y="1751040"/>
          <a:ext cx="8353440" cy="4486320"/>
        </p:xfrm>
        <a:graphic>
          <a:graphicData uri="http://schemas.openxmlformats.org/drawingml/2006/table">
            <a:tbl>
              <a:tblPr/>
              <a:tblGrid>
                <a:gridCol w="1146240"/>
                <a:gridCol w="1146240"/>
                <a:gridCol w="1062000"/>
                <a:gridCol w="1062000"/>
                <a:gridCol w="1062000"/>
                <a:gridCol w="1063440"/>
                <a:gridCol w="181152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HBsAg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HBeAg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抗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HBc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IgM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抗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HBc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IgG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抗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HBe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抗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HBs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结果解释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接种过乙肝疫苗，有免疫力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乙肝急性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慢乙肝，病毒高复制，传染性强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63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慢乙肝，病毒低复制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/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慢乙肝急性发作，病毒较高复制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63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/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乙肝恢复期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/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既往感染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二节 乙型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971280" y="2133360"/>
            <a:ext cx="8034120" cy="307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防治措施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8000" indent="-288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控制传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8000" indent="-288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特异性预防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疫苗接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8000" indent="-288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人工被动免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s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的人免疫球蛋白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Ig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8000" indent="-288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治疗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干扰素、核苷（酸）类似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8000" indent="-288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8000" indent="-288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三节 丙型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714240" y="2082960"/>
            <a:ext cx="803448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主要生物学特性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单正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病毒，有包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C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基因易发生变异，目前有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个基因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基因型不同，其与疾病严重程度及对干扰素治疗的敏感性密切相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00℃,5min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灭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三节 丙型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641160" y="1915920"/>
            <a:ext cx="8251560" cy="40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致病性与免疫性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主要经血液传播，丙肝患者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C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阳性血制品为主要传染源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相比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C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感染特点包括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隐性感染多见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更易慢性化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HC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免疫原性较弱，易导致免疫耐受或持续感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三节 丙型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2123640" y="2420640"/>
            <a:ext cx="501012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检查与防治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ELIS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查抗体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PCR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查核酸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无疫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四节 其他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714240" y="1223640"/>
            <a:ext cx="8034480" cy="51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243360" indent="-24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丁型肝炎病毒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DV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缺陷病毒，需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辅助复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HD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传播途径、抗性等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类似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临床感染类型：联合感染和重叠感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戊型肝炎病毒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EV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单正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病毒，无包膜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粪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口途径传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青壮年发病为主，临床表现类似甲肝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孕妇病情较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思考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684000" y="2637000"/>
            <a:ext cx="806436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通过消化道感染引起急性肝炎的病毒有哪些？通过血液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性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母婴传播的肝炎病毒有哪些？其生物学性状和致病性有哪些异同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乙肝“两对半”检查的内容和意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1003320" y="2565000"/>
            <a:ext cx="7169040" cy="19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肝炎病毒是指以侵害肝脏为主，引起病毒性肝炎的一组不同种属的病毒。包括：甲、乙、丙、丁、戊五个型别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179280" y="1511280"/>
          <a:ext cx="8785440" cy="4654440"/>
        </p:xfrm>
        <a:graphic>
          <a:graphicData uri="http://schemas.openxmlformats.org/drawingml/2006/table">
            <a:tbl>
              <a:tblPr/>
              <a:tblGrid>
                <a:gridCol w="1152720"/>
                <a:gridCol w="1584360"/>
                <a:gridCol w="1655640"/>
                <a:gridCol w="1295280"/>
                <a:gridCol w="1225800"/>
                <a:gridCol w="1871640"/>
              </a:tblGrid>
              <a:tr h="50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病毒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HAV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HBV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HCV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HDV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HEV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91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分类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小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RNA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病毒科嗜肝病毒属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嗜肝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DNA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病毒科正嗜肝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DNA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病毒属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黄病毒科丙型肝炎病毒属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未确定丁型肝炎病毒属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戊型肝炎病毒科戊型肝炎病毒属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大小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27nm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42nm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55~65nm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35nm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30~32nm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包膜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基因组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ssRNA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dsDNA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ssRNA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ssRNA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ssRNA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传播途径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粪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口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母婴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/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血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/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性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血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/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母婴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/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性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同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HBV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粪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口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慢性化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致癌性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免疫性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持久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同型免疫持久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可再感染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可再感染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可再感染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疫苗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减毒活疫苗灭活疫苗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基因工程疫苗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无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HBV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疫苗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基因工程疫苗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一节 甲型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41160" y="2205000"/>
            <a:ext cx="803412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生物学特征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单正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病毒，无包膜，衣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面体立体对称；核酸具感染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外界抗性强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00℃,5min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灭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免疫原性稳定，一个血清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A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可感染多种细胞，但不引起明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CPE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一节 甲型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41160" y="1916280"/>
            <a:ext cx="803412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致病性与免疫性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传染源为患者及隐性感染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粪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口途径传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人群普遍易感，约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70%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为隐性感染，多见于幼儿；显性感染多发生于儿童及青少年；成人感染病变较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甲肝一般预后良好，不转为慢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感染后，一般终生免疫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一节 甲型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2009520" y="2060640"/>
            <a:ext cx="573084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微生物学检查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ELIS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检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A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的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IgM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预防控制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加强饮食业、水源等的管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疫苗接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二节 乙型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41160" y="2205000"/>
            <a:ext cx="803412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生物学特征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不完全双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病毒，有包膜（又称外衣壳），内衣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面体立体对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感染者血清中可见三种病毒相关颗粒：大球型颗粒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ane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颗粒）、小球型颗粒和管型颗粒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二节 乙型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41160" y="2205000"/>
            <a:ext cx="803412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ane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颗粒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有感染性、结构完整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V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颗粒。包含核心和双层衣壳，直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42nm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小球性颗粒和管型颗粒是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产生的过剩表面蛋白聚合而成，不含核酸，无感染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二节 乙型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826920" y="2133720"/>
            <a:ext cx="8066160" cy="34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-257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基因结构：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个开放读码框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7040" indent="-257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S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包括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S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preS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preS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基因，编码构成外衣壳的主蛋白（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sAg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、中蛋白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preS2+S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和大蛋白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preS2+preS1+S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7040" indent="-257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C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编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eAg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和内衣壳的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cAg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7040" indent="-257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P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编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聚合酶（有逆转录活性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7040" indent="-257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* X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编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xAg(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与肝癌发生有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7040" indent="-257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7040" indent="-257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7040" indent="-257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微软用户</cp:lastModifiedBy>
  <dcterms:modified xsi:type="dcterms:W3CDTF">2015-08-26T08:13:35Z</dcterms:modified>
  <cp:revision>198</cp:revision>
  <dc:subject/>
  <dc:title>内科护理学</dc:title>
</cp:coreProperties>
</file>